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3010-1BD8-4CD8-B239-D38F0EB6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D54-095C-4680-AE2D-78D8562E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9A1-34FE-457A-9693-83ACDA4A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26D9-641A-4238-AB4D-9ADE6727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805F-267F-4A3E-8A7A-18E828D2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3BC-5215-464E-82FA-6BB28DF0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84FC-DEF4-433D-9F7F-A18C8E50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6D4-DC7C-4A2C-AFAA-66DA1059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B35-16C4-4252-9DFA-F8624B28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6E9F-B046-4A81-B2E8-410F1388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CC61-9507-43A9-B567-FD12B457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268-B2F1-4ABC-9E59-D52679A6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E6A2-6A78-4947-B463-6431C0613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80" y="2276640"/>
            <a:ext cx="9144000" cy="15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Electrical activity of the he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72080" y="5656320"/>
            <a:ext cx="447192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partment of Physi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87360" y="144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UL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2700360" y="393372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ek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835280" y="321300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324000" y="441360"/>
            <a:ext cx="8820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polarizatio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ons conductance decrease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le K ions conductance pers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 ions outflow returns to membrane potential to Nernst potential fo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larizat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30"/>
          <p:cNvSpPr/>
          <p:nvPr/>
        </p:nvSpPr>
        <p:spPr>
          <a:xfrm>
            <a:off x="4356000" y="494172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411280" y="299736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380880" y="473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ting membrane potent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iod with equal conductance for positive and negative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rane potential remains at the value of Nernst’s potential fo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030"/>
          <p:cNvSpPr/>
          <p:nvPr/>
        </p:nvSpPr>
        <p:spPr>
          <a:xfrm>
            <a:off x="6084720" y="558972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https://www.urmc.rochester.edu/Encyclopedia/GetImage.aspx?ImageID=125477"/>
          <p:cNvPicPr/>
          <p:nvPr/>
        </p:nvPicPr>
        <p:blipFill>
          <a:blip r:embed="rId1"/>
          <a:stretch/>
        </p:blipFill>
        <p:spPr>
          <a:xfrm>
            <a:off x="1042920" y="378000"/>
            <a:ext cx="71294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26"/>
          <p:cNvSpPr/>
          <p:nvPr/>
        </p:nvSpPr>
        <p:spPr>
          <a:xfrm>
            <a:off x="250920" y="700560"/>
            <a:ext cx="889308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 system of the heart: sinoatrial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S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atrioventricular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-Purkinje’s system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hysiologic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acemak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heart b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stable resting membran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has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ntaneous depolarizatio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a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i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ann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27" descr=""/>
          <p:cNvPicPr/>
          <p:nvPr/>
        </p:nvPicPr>
        <p:blipFill>
          <a:blip r:embed="rId1"/>
          <a:stretch/>
        </p:blipFill>
        <p:spPr>
          <a:xfrm>
            <a:off x="2484360" y="4508640"/>
            <a:ext cx="3581640" cy="1877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8471880" y="47556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640" y="50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V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de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s-Purkinje’s system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latent pacemaker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a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replace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S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uppre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25560" y="2644920"/>
            <a:ext cx="914400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ace of phas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ntaneous depolarizat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determine heart rat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highest in SA 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shortest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e slowest is His-Purkinje’s syste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S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&gt; AV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&gt;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is-Purkinje’s sys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reason why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de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 pacemaker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50920" y="5589720"/>
            <a:ext cx="748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60-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40-6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 Purkinje’s fibe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15-4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26"/>
          <p:cNvSpPr/>
          <p:nvPr/>
        </p:nvSpPr>
        <p:spPr>
          <a:xfrm>
            <a:off x="324000" y="65880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ow and spontaneous depolar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ause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cemaker activity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matis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well as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 an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-Purkinje’s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ears as a consequence of increase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ductance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7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3581280" cy="1877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8184600" y="20808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27" descr=""/>
          <p:cNvPicPr/>
          <p:nvPr/>
        </p:nvPicPr>
        <p:blipFill>
          <a:blip r:embed="rId1"/>
          <a:stretch/>
        </p:blipFill>
        <p:spPr>
          <a:xfrm>
            <a:off x="2771640" y="4292640"/>
            <a:ext cx="3581640" cy="1878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050"/>
          <p:cNvSpPr/>
          <p:nvPr/>
        </p:nvSpPr>
        <p:spPr>
          <a:xfrm>
            <a:off x="250920" y="745560"/>
            <a:ext cx="85690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d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pid increase of membrane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e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reased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sr-Latn-CS" sz="20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+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duc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reased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ions inflow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most reaching the value of Nernst’s potential for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fference in ions transf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atrial and ventricular muscles in phase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27" descr=""/>
          <p:cNvPicPr/>
          <p:nvPr/>
        </p:nvPicPr>
        <p:blipFill>
          <a:blip r:embed="rId1"/>
          <a:stretch/>
        </p:blipFill>
        <p:spPr>
          <a:xfrm>
            <a:off x="2771640" y="4005360"/>
            <a:ext cx="3581640" cy="1877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26"/>
          <p:cNvSpPr/>
          <p:nvPr/>
        </p:nvSpPr>
        <p:spPr>
          <a:xfrm>
            <a:off x="241200" y="643320"/>
            <a:ext cx="8640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onsequence of increase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ductance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 ions outflow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larization of membran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 phases 1 and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26"/>
          <p:cNvSpPr/>
          <p:nvPr/>
        </p:nvSpPr>
        <p:spPr>
          <a:xfrm>
            <a:off x="395280" y="353880"/>
            <a:ext cx="85694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ing down of impuls transmission in AV 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son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ive fibers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er diame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han SA n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er number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p junc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increased resis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29" descr=""/>
          <p:cNvPicPr/>
          <p:nvPr/>
        </p:nvPicPr>
        <p:blipFill>
          <a:blip r:embed="rId1"/>
          <a:stretch/>
        </p:blipFill>
        <p:spPr>
          <a:xfrm>
            <a:off x="2195640" y="4149720"/>
            <a:ext cx="4267080" cy="2467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1039680"/>
            <a:ext cx="3816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time required for excitation transmission through cardiac tiss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ends on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ve ions inflow during phase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positive correl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ghes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His-Purkinje’s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allowing the synchronized ventricular contractio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4211640" y="549360"/>
            <a:ext cx="4753080" cy="5689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1258920" y="19116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ANATOMY OF THE CARDIAC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80880" y="1685880"/>
            <a:ext cx="38307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alated dis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located at the end of cardiac muscle cells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Gap junction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respond to 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ntercalated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low electrical resistance pathway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rapid signal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cardiac muscle to operate as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ical syncy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http://www.austincc.edu/apreview/NursingPics/CardiacPics/Picture6.jpg"/>
          <p:cNvPicPr/>
          <p:nvPr/>
        </p:nvPicPr>
        <p:blipFill>
          <a:blip r:embed="rId1"/>
          <a:stretch/>
        </p:blipFill>
        <p:spPr>
          <a:xfrm>
            <a:off x="4211640" y="1484280"/>
            <a:ext cx="493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79280" y="1268280"/>
            <a:ext cx="335304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est in AV 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llowing the ventricular filling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velocity increases – insufficient ventricular fillin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492360" y="476280"/>
            <a:ext cx="538164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08000" y="311760"/>
            <a:ext cx="496872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re numer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n in skeletal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ep cell membrane invagination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rger diame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n in skeletal mus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ted in the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the transfer of action potential into the muscl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robust in chambers (than in atria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a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ith sarcoplasmic ret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 voltage-dependent calcium receptor -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hydropyridine 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dk6qunh1hkthr.cloudfront.net/content/nips/27/5/308/F1.large.jpg"/>
          <p:cNvPicPr/>
          <p:nvPr/>
        </p:nvPicPr>
        <p:blipFill>
          <a:blip r:embed="rId1"/>
          <a:stretch/>
        </p:blipFill>
        <p:spPr>
          <a:xfrm>
            <a:off x="4906800" y="1916280"/>
            <a:ext cx="4237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108000" y="1699560"/>
            <a:ext cx="468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rcoplasmic reticulum 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R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 diameter tubules located near contractil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of calcium ions and releasing site for calcium ions (excitation and contrac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s calcium channels -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yanodine receptors</a:t>
            </a:r>
            <a:r>
              <a:rPr b="0" i="1" lang="sr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yR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://dk6qunh1hkthr.cloudfront.net/content/nips/27/5/308/F1.large.jpg"/>
          <p:cNvPicPr/>
          <p:nvPr/>
        </p:nvPicPr>
        <p:blipFill>
          <a:blip r:embed="rId1"/>
          <a:stretch/>
        </p:blipFill>
        <p:spPr>
          <a:xfrm>
            <a:off x="4906800" y="1916280"/>
            <a:ext cx="4237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HYTHMIC EXCITATION OF THE HE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" y="1628280"/>
            <a:ext cx="867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diac muscle contai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rial and ventricular mus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rt conduction system (specialized muscle fib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А n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V node – АV bund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 bund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kinje’s fi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950840" y="17784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 OF THE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24000" y="1080000"/>
            <a:ext cx="856908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ntricule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ria and Purkinj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ble membrane pot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pp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90 m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, reaching the Nernst’s potential for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especially in Purkinje’s fibers (300 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411280" y="328464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479160" y="42926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3635280" y="371628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3924360" y="393372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6156360" y="580536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3348000" y="494172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5003640" y="501336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24000" y="330840"/>
            <a:ext cx="851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d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pid increase of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e to transi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permeability for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hich allows enter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ons and depolarize the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ches the Nernst’s potential for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195640" y="350028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67" name="Oval 1030"/>
          <p:cNvSpPr/>
          <p:nvPr/>
        </p:nvSpPr>
        <p:spPr>
          <a:xfrm>
            <a:off x="3124080" y="502920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28680" y="489600"/>
            <a:ext cx="8351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repolarizatio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s as a conseque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itive ions outflow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stly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 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ed by chemical and electrical gradien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ly du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reased permeability for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N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ion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71" name="Oval 1030"/>
          <p:cNvSpPr/>
          <p:nvPr/>
        </p:nvSpPr>
        <p:spPr>
          <a:xfrm>
            <a:off x="2987640" y="364500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340000" y="342900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395280" y="228600"/>
            <a:ext cx="84978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"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latea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ppears as a conseque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taneous increase in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+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duc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nflow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 still remaining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+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conduc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out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ions transfer is almost eq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the membrane potential remains its valu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isoelectric, plat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30"/>
          <p:cNvSpPr/>
          <p:nvPr/>
        </p:nvSpPr>
        <p:spPr>
          <a:xfrm>
            <a:off x="3851280" y="400536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57:51Z</dcterms:created>
  <dc:creator>Maja</dc:creator>
  <dc:description/>
  <dc:language>en-US</dc:language>
  <cp:lastModifiedBy>Korisnik</cp:lastModifiedBy>
  <dcterms:modified xsi:type="dcterms:W3CDTF">2023-10-10T12:20:06Z</dcterms:modified>
  <cp:revision>259</cp:revision>
  <dc:subject/>
  <dc:title>Slide 1</dc:title>
</cp:coreProperties>
</file>